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3F9-93A3-44AA-A083-9BA3167D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A1D-C69D-4ECA-A28D-9C167451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8B53B-F55F-4CEA-ABB4-7A90F70E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D2E51-AA43-4720-BC94-8C3E33A3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D196A-4892-4ACD-83C5-DD1A9073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9FF5E-8C8E-4209-9A92-DBA9D141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D0593-E0A6-4B29-B1C8-353284A0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FD96D-C563-4987-ACDB-A33D4EFD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76489-D9BF-4093-9B58-74B96434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8DA3A-6AEF-4F5B-A9E8-BFE835B0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DB5D1-7267-4F93-A7F4-54911684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E50CF-4D7B-43A3-8881-DB6DB330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B71-EAD5-4E3E-969D-7FFC3ECF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56021-5526-4E3C-8510-8458265B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48180-3E30-46A3-BD61-91A04E53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898A6-E18D-4E6A-A0E2-9293391A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74C8C-4BAB-4EAC-8BB5-7F62AADF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34693-EA62-48F1-95E2-D07D705C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9781F-D003-4852-9147-9AED60A0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6A762-84DA-4695-9609-5D19BEAD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EE257-62A7-4B73-82A0-9A6B820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F00A0-196A-4BFF-89C9-90139D0A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60FB8-5373-4D93-8947-BF99D148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545-D6BA-457F-8AA4-9D7C0655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7C328-CDD9-4472-867C-A6062165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6E729-D713-4982-916C-62C30705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B88EB-B8CA-43CB-AFE7-CDBC4BA3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ED9F8-633D-4817-9CDB-32319321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BB44C-EC8A-4E56-9E85-DA9CB8F7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1DCB8-0EF6-4CEF-9C22-C52F6979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0C936-4F27-4A93-A04E-7BC9BEDC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A62F1-8EFF-4999-B1C3-6536E8B2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CC679-2C19-40F7-9F81-7A025C8B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EF5E3-94B3-436A-961B-2D981B4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C9E1-749B-4665-BBEA-7712679A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F8893-17B1-40CB-BA2C-A7E4605E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DD619-CCD2-49C0-86ED-B0FE877D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7D021-30FC-472C-BFFD-9D46C567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ED282-491A-45FD-81B9-7EEC8151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7B1E9-8636-49F0-BE28-A6657990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13060-3E23-4D57-94AD-D2AD8A99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F6825-C61E-4739-BFA6-B1433883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8AD8E-0129-4EEE-A4CD-52650711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CB628-90C2-4132-B54B-756F2315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E99AD-04E5-4D7F-8DF1-7436B75E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18B2-B73A-4098-9637-2C40DCCF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8B2DA-7692-4AF2-96E0-EC35E7CA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989CB-1DA5-49BA-82EC-B1BD146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13846-A43C-4F94-AEE4-F1BA64A0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0D01D-E7AC-49F1-A67D-E27877E4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7FFBD-2D3F-4D69-A52A-4F1404F8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711E6-291C-464A-8E0A-4A24390F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0EFC3-02A5-4C59-8478-74C119A5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DCA53-6002-4315-882A-BDB556AF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A342A-8810-48FE-B9B2-9A87C99F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81774-2273-4535-9877-8F32C73D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0DAB-7215-4436-A2EC-3E1AF755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B1A86-8BD9-4664-9B49-CF33788A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1EABD-F8FD-4B39-B19D-9FBD34F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83271-1940-4DAF-8D1D-6C6D99E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AA656-5BDE-46E0-9620-0047409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0F818-973A-40A9-84B8-CB612EA9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D9396-1C63-4789-9B37-CFB0F546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E698F-C39F-44B5-B7EF-AE38D0D5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95972-766D-4890-A3AE-9DE4BF8E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02CDE-6B39-487B-B032-0E1D1F85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A8BEF-AAC3-41AC-99B2-1A3E86C8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EBFC-4994-4AEC-B7F5-8B8B40FD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E00A4-580A-44FD-9A42-1466E346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64FC3-86F3-442A-A7A8-0392E37E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FB47B-8F53-4021-A420-B2BD12C5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61937-FEF9-4C6F-964E-D2C9203E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4651F-2295-4D1B-9717-11942A04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BFD7B-9A25-4489-AFF8-59A05FB4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E5A3F-D8FF-4A98-A832-BCBC5485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8B84C-3C4E-498A-9AE6-C4F4910A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B1279-3444-4B74-AF00-3C4F905B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53CC-6E2B-4C52-BA78-EBA24C6E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5052-6C7F-40BD-B293-A442F0A7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01A1-A5F3-4A4F-B980-C359105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450-93F1-45F4-968B-11530C3A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588F-5D59-4368-9AAC-DC9BB8FB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272F-D8CB-4A4F-88B8-F59927AB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0DAE-36B8-43AC-B7E0-B3017018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53F9-12CC-4572-B47E-FBDFAE8A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1A9B-F31C-4B29-A15A-90B653B5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B594-0363-4374-8745-59A8FAD9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44D8D-B9C8-48A3-8892-86677C8A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49D2-171C-471D-BFA4-36F6B438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79EA-9F3E-41FB-8264-4F22E1ED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B538-BF9C-4473-A851-EEB19451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FDF-1243-491B-86D3-476FDEE9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7914-FD3B-4B90-B5B3-807A7F1F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2175-3D04-45CF-8EEE-88390DD2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2CB85-017E-413D-AD11-9ED8A5B2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BB674-BE08-44D8-B1EF-1036EE5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15A8-7AAC-497D-B665-A63D36EA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0004A-F72F-43CB-98DC-F516D8C1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3CD6D-E6E0-449E-9432-6B617497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A0E1F-24A3-4571-AC71-03F02924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613C-FCB4-4DC7-B8D3-7CEF377F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556D-E9C6-4690-8516-3059B06D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1AF-1817-4326-96F4-F3E1CF48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BC7EC-6031-4C86-9A68-B41C66E2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A344-CFD0-4FDE-A26B-571DF241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7ACE1-141F-493B-9C49-126D3FFA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5EBE-854B-4957-9C7F-409DFADB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3ADDA-1F26-44A7-8AAB-B68E00C8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F1EAC-A31F-4683-8DFF-B281430D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DFEA-6A4C-41F0-B2F4-989634C3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9A25-947A-4CDB-B86A-1EFFC882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4C2F8-A0B6-48A4-8323-790602B2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18CCC-EC1B-4015-BF29-13DAC98C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44D-692B-4CA7-A938-6010418A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671C5-28E1-4B8A-87B7-89968C39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E5FA0-2C1F-46AF-A214-CA80293E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D968-3247-46A4-B146-E8AE4FFE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8FCE8-6E63-4758-B987-1D5442C4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50E62-1632-47D5-935F-02B0FA21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E720F-31F6-4D6E-97C7-3564966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5334-9FB4-4BA1-A437-9DAF698C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DA44E-F5E0-4BE9-8D8B-99E2A198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E9E63-06BC-4D17-A6E4-ABACB6B9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F8CC3-BACA-4A8C-B933-A36465C6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1CD2-9EA3-4A01-8F6C-65DDB3F8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1FAFD-9C65-4A04-8A75-E96B417D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09143-7ABA-48E7-BE6A-977C1A87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4974-67B1-4620-AEF9-9F593293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78FDF-C6F5-4D0F-BE3D-897B9C70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FCD54-9F0D-438D-9151-F5A645CE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9A137-D51E-41E5-B0EB-9E42E034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8E51E-BC49-44BC-BA7F-5907C01E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C67FA-9A8F-4D61-BE5E-37ED4005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E0128-6F09-46F5-9DF7-6081911E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0E39C-CE0D-435D-98DD-DDF2C4D8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58D-86F4-4DBC-9DCC-58D59C2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D1902-27E3-40D4-BD59-433C78BB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C403E-7439-482B-8161-3A715B5D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F0E81-522F-4307-A307-2FD2B1DF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A77D4-DA54-4D3A-A4E5-8C7B967F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0C128-49E1-448B-B23C-85992B2E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2A1DD-9B3E-4A63-9FFC-89134C14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BAF7C-E456-472C-AF05-DF7CE8C6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ADCD0-4E13-45E0-BD65-5F1E9455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18716-C830-4E20-9330-D53674F1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EC9C7-0990-4BCE-B904-BB3FDD6C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3A4-6752-49A3-98BF-8FADDE9C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FB1DB-877B-4A1D-BB74-BFC6BD7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72D72-A514-4698-8942-7DC85CEA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938B4-6C6E-4ADF-9596-0B32B27C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5CB9D-14CE-4435-AB9D-8C9EED0E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8E855-32EB-4D61-B4F1-018FA097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38FEB-BEC9-4647-9C1C-108A3679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D2CB4-DBD9-42D9-B0F5-FEC47EB5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8492C-1880-4357-B20D-D79C49AF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1E367-4416-44D0-9A65-C5980436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3FFA1-F281-4ACB-82FF-9CD7F0D8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195-17EF-44C1-882E-21DECF3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EB33A-224D-48FF-BA16-993AB693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54877-09D7-43DB-A515-C7F1771F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277A5-230D-4FB3-A7F6-40CA6CAB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6579D-3C1D-4AC0-902A-7B0A2167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1F0AC-3E4E-42CF-91AD-09AD8B7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D232E-144C-4DF0-B2C6-951EDF91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72851-60B2-4F8A-A2C1-BFE3977F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FED8F-8D7B-45F9-8C4F-F02EA1B6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ACD60-108F-44D6-82C9-BAFEDCD3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A26D0-1B01-48FF-9171-0538F5A0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1751-2E38-4C16-9792-D62321BE7D4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A16B-94BD-4720-8A8F-34434DAA016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0D61-7AA2-4036-841F-0B2AFCAAB53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8B90-8AA9-4238-B83C-17FB6B4B85D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8B4D-EDED-454C-B3F2-AABAF2B5C66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3580-B47B-4D1A-8B4A-4A0C0D5EEB4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630C-3ABF-4222-9423-B2C1FA7CC36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0A2E-829E-4376-8ACA-B7424C6C0AA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9FD5-1721-4B53-8063-AAA74981780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B37C-855F-4910-BF79-E4A394214EC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B6FE-6431-4AA4-B46D-D29A617D401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EB2E-E425-479B-A5B8-E062223B1D2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9A9F-EB05-453E-AC7F-77A7BB591B7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58A0-D472-436C-A290-00ABA11FD0A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.sonda@kcri.ac.tz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6840" y="2743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oost your Productivity with Simple ICT Too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ubtitle 2"/>
          <p:cNvSpPr/>
          <p:nvPr/>
        </p:nvSpPr>
        <p:spPr>
          <a:xfrm>
            <a:off x="533520" y="50292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Tolbert Sonda, Ph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Kilimanjaro Clinical Research Instit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.sonda@kcri.ac.t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 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itle 1"/>
          <p:cNvSpPr/>
          <p:nvPr/>
        </p:nvSpPr>
        <p:spPr>
          <a:xfrm>
            <a:off x="609480" y="556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lect “suggesting” to show chan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9" descr=""/>
          <p:cNvPicPr/>
          <p:nvPr/>
        </p:nvPicPr>
        <p:blipFill>
          <a:blip r:embed="rId1"/>
          <a:stretch/>
        </p:blipFill>
        <p:spPr>
          <a:xfrm>
            <a:off x="415800" y="1339920"/>
            <a:ext cx="8312400" cy="4176720"/>
          </a:xfrm>
          <a:prstGeom prst="rect">
            <a:avLst/>
          </a:prstGeom>
          <a:ln w="0">
            <a:noFill/>
          </a:ln>
        </p:spPr>
      </p:pic>
      <p:sp>
        <p:nvSpPr>
          <p:cNvPr id="624" name="Right Arrow 10"/>
          <p:cNvSpPr/>
          <p:nvPr/>
        </p:nvSpPr>
        <p:spPr>
          <a:xfrm>
            <a:off x="5556240" y="2590920"/>
            <a:ext cx="1225440" cy="298440"/>
          </a:xfrm>
          <a:prstGeom prst="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 to collabor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9" descr="Screen Shot 2015-07-21 at 7.03.52 PM.png"/>
          <p:cNvPicPr/>
          <p:nvPr/>
        </p:nvPicPr>
        <p:blipFill>
          <a:blip r:embed="rId1"/>
          <a:srcRect l="0" t="7173" r="46150" b="35716"/>
          <a:stretch/>
        </p:blipFill>
        <p:spPr>
          <a:xfrm>
            <a:off x="192240" y="801720"/>
            <a:ext cx="8759520" cy="5807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628" name="TextBox 12"/>
          <p:cNvSpPr/>
          <p:nvPr/>
        </p:nvSpPr>
        <p:spPr>
          <a:xfrm>
            <a:off x="3124080" y="100080"/>
            <a:ext cx="289584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  <a:ea typeface="Franklin Gothic Medium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13" descr="Screen Shot 2015-07-21 at 7.08.14 PM.png"/>
          <p:cNvPicPr/>
          <p:nvPr/>
        </p:nvPicPr>
        <p:blipFill>
          <a:blip r:embed="rId2"/>
          <a:srcRect l="2094" t="32423" r="60648" b="21190"/>
          <a:stretch/>
        </p:blipFill>
        <p:spPr>
          <a:xfrm>
            <a:off x="4038480" y="3352680"/>
            <a:ext cx="4343400" cy="338004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cxnSp>
        <p:nvCxnSpPr>
          <p:cNvPr id="630" name="Straight Arrow Connector 2"/>
          <p:cNvCxnSpPr/>
          <p:nvPr/>
        </p:nvCxnSpPr>
        <p:spPr>
          <a:xfrm>
            <a:off x="5790960" y="3048120"/>
            <a:ext cx="686520" cy="2134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31" name="Right Arrow 6"/>
          <p:cNvSpPr/>
          <p:nvPr/>
        </p:nvSpPr>
        <p:spPr>
          <a:xfrm rot="8504400">
            <a:off x="1526760" y="1670040"/>
            <a:ext cx="1347840" cy="479520"/>
          </a:xfrm>
          <a:prstGeom prst="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849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5" descr="Screen Shot 2015-07-21 at 7.03.52 PM.png"/>
          <p:cNvPicPr/>
          <p:nvPr/>
        </p:nvPicPr>
        <p:blipFill>
          <a:blip r:embed="rId1"/>
          <a:srcRect l="0" t="7173" r="78801" b="35716"/>
          <a:stretch/>
        </p:blipFill>
        <p:spPr>
          <a:xfrm>
            <a:off x="1523880" y="152280"/>
            <a:ext cx="3886200" cy="654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633" name="Right Arrow 4"/>
          <p:cNvSpPr/>
          <p:nvPr/>
        </p:nvSpPr>
        <p:spPr>
          <a:xfrm rot="10800000">
            <a:off x="4952520" y="3581280"/>
            <a:ext cx="1295640" cy="609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"/>
          <p:cNvSpPr/>
          <p:nvPr/>
        </p:nvSpPr>
        <p:spPr>
          <a:xfrm>
            <a:off x="6324480" y="3505320"/>
            <a:ext cx="17384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3" descr=""/>
          <p:cNvPicPr/>
          <p:nvPr/>
        </p:nvPicPr>
        <p:blipFill>
          <a:blip r:embed="rId1"/>
          <a:stretch/>
        </p:blipFill>
        <p:spPr>
          <a:xfrm>
            <a:off x="1825560" y="914400"/>
            <a:ext cx="51116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619560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ry one is a research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600120" y="762120"/>
            <a:ext cx="7629480" cy="5257800"/>
            <a:chOff x="600120" y="762120"/>
            <a:chExt cx="7629480" cy="5257800"/>
          </a:xfrm>
        </p:grpSpPr>
        <p:pic>
          <p:nvPicPr>
            <p:cNvPr id="580" name="Picture 6" descr=""/>
            <p:cNvPicPr/>
            <p:nvPr/>
          </p:nvPicPr>
          <p:blipFill>
            <a:blip r:embed="rId1"/>
            <a:srcRect l="35294" t="16584" r="0" b="0"/>
            <a:stretch/>
          </p:blipFill>
          <p:spPr>
            <a:xfrm>
              <a:off x="761760" y="762120"/>
              <a:ext cx="35053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7" descr=""/>
            <p:cNvPicPr/>
            <p:nvPr/>
          </p:nvPicPr>
          <p:blipFill>
            <a:blip r:embed="rId2"/>
            <a:stretch/>
          </p:blipFill>
          <p:spPr>
            <a:xfrm>
              <a:off x="4800600" y="762120"/>
              <a:ext cx="3429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8" descr=""/>
            <p:cNvPicPr/>
            <p:nvPr/>
          </p:nvPicPr>
          <p:blipFill>
            <a:blip r:embed="rId3"/>
            <a:stretch/>
          </p:blipFill>
          <p:spPr>
            <a:xfrm>
              <a:off x="600120" y="3276720"/>
              <a:ext cx="2448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9" descr=""/>
            <p:cNvPicPr/>
            <p:nvPr/>
          </p:nvPicPr>
          <p:blipFill>
            <a:blip r:embed="rId4"/>
            <a:srcRect l="29631" t="27780" r="27414" b="11767"/>
            <a:stretch/>
          </p:blipFill>
          <p:spPr>
            <a:xfrm>
              <a:off x="6172200" y="3276720"/>
              <a:ext cx="20574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10" descr=""/>
            <p:cNvPicPr/>
            <p:nvPr/>
          </p:nvPicPr>
          <p:blipFill>
            <a:blip r:embed="rId5"/>
            <a:stretch/>
          </p:blipFill>
          <p:spPr>
            <a:xfrm>
              <a:off x="3137040" y="3276720"/>
              <a:ext cx="2857320" cy="274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3" descr=""/>
          <p:cNvPicPr/>
          <p:nvPr/>
        </p:nvPicPr>
        <p:blipFill>
          <a:blip r:embed="rId1"/>
          <a:stretch/>
        </p:blipFill>
        <p:spPr>
          <a:xfrm>
            <a:off x="507960" y="990720"/>
            <a:ext cx="8128080" cy="4572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601956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messy desk may affect your produ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researcher’s toolbox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itle 1"/>
          <p:cNvSpPr/>
          <p:nvPr/>
        </p:nvSpPr>
        <p:spPr>
          <a:xfrm>
            <a:off x="162000" y="5992920"/>
            <a:ext cx="8667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WHEN, HOW and WHAT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Group 4"/>
          <p:cNvGrpSpPr/>
          <p:nvPr/>
        </p:nvGrpSpPr>
        <p:grpSpPr>
          <a:xfrm>
            <a:off x="1317600" y="1474920"/>
            <a:ext cx="6454800" cy="4240080"/>
            <a:chOff x="1317600" y="1474920"/>
            <a:chExt cx="6454800" cy="4240080"/>
          </a:xfrm>
        </p:grpSpPr>
        <p:pic>
          <p:nvPicPr>
            <p:cNvPr id="590" name="Picture 5" descr=""/>
            <p:cNvPicPr/>
            <p:nvPr/>
          </p:nvPicPr>
          <p:blipFill>
            <a:blip r:embed="rId1"/>
            <a:srcRect l="29310" t="11639" r="29932" b="15929"/>
            <a:stretch/>
          </p:blipFill>
          <p:spPr>
            <a:xfrm>
              <a:off x="3680280" y="1474920"/>
              <a:ext cx="1459440" cy="119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6" descr=""/>
            <p:cNvPicPr/>
            <p:nvPr/>
          </p:nvPicPr>
          <p:blipFill>
            <a:blip r:embed="rId2"/>
            <a:srcRect l="16290" t="5927" r="17000" b="23364"/>
            <a:stretch/>
          </p:blipFill>
          <p:spPr>
            <a:xfrm>
              <a:off x="1366200" y="2831040"/>
              <a:ext cx="1764000" cy="14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7" descr=""/>
            <p:cNvPicPr/>
            <p:nvPr/>
          </p:nvPicPr>
          <p:blipFill>
            <a:blip r:embed="rId3"/>
            <a:stretch/>
          </p:blipFill>
          <p:spPr>
            <a:xfrm>
              <a:off x="3399120" y="2849040"/>
              <a:ext cx="2017440" cy="16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8" descr=""/>
            <p:cNvPicPr/>
            <p:nvPr/>
          </p:nvPicPr>
          <p:blipFill>
            <a:blip r:embed="rId4"/>
            <a:srcRect l="25548" t="0" r="28325" b="35520"/>
            <a:stretch/>
          </p:blipFill>
          <p:spPr>
            <a:xfrm>
              <a:off x="6114240" y="4526280"/>
              <a:ext cx="165816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9" descr=""/>
            <p:cNvPicPr/>
            <p:nvPr/>
          </p:nvPicPr>
          <p:blipFill>
            <a:blip r:embed="rId5"/>
            <a:stretch/>
          </p:blipFill>
          <p:spPr>
            <a:xfrm>
              <a:off x="1523880" y="4652280"/>
              <a:ext cx="1981440" cy="9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10" descr=""/>
            <p:cNvPicPr/>
            <p:nvPr/>
          </p:nvPicPr>
          <p:blipFill>
            <a:blip r:embed="rId6"/>
            <a:srcRect l="5091" t="6274" r="6450" b="7596"/>
            <a:stretch/>
          </p:blipFill>
          <p:spPr>
            <a:xfrm>
              <a:off x="5638320" y="1531080"/>
              <a:ext cx="1857240" cy="12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1" descr=""/>
            <p:cNvPicPr/>
            <p:nvPr/>
          </p:nvPicPr>
          <p:blipFill>
            <a:blip r:embed="rId7"/>
            <a:stretch/>
          </p:blipFill>
          <p:spPr>
            <a:xfrm>
              <a:off x="5720760" y="2944080"/>
              <a:ext cx="1774440" cy="144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2" descr=""/>
            <p:cNvPicPr/>
            <p:nvPr/>
          </p:nvPicPr>
          <p:blipFill>
            <a:blip r:embed="rId8"/>
            <a:srcRect l="11843" t="14799" r="10381" b="32723"/>
            <a:stretch/>
          </p:blipFill>
          <p:spPr>
            <a:xfrm>
              <a:off x="1317600" y="1531080"/>
              <a:ext cx="2020680" cy="111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4"/>
          <p:cNvSpPr/>
          <p:nvPr/>
        </p:nvSpPr>
        <p:spPr>
          <a:xfrm>
            <a:off x="457200" y="5802480"/>
            <a:ext cx="82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Calibri"/>
              </a:rPr>
              <a:t>You create and manage files on/offlin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5" descr=""/>
          <p:cNvPicPr/>
          <p:nvPr/>
        </p:nvPicPr>
        <p:blipFill>
          <a:blip r:embed="rId1"/>
          <a:stretch/>
        </p:blipFill>
        <p:spPr>
          <a:xfrm>
            <a:off x="3191040" y="2230560"/>
            <a:ext cx="2219040" cy="1960560"/>
          </a:xfrm>
          <a:prstGeom prst="rect">
            <a:avLst/>
          </a:prstGeom>
          <a:ln w="0">
            <a:noFill/>
          </a:ln>
        </p:spPr>
      </p:pic>
      <p:sp>
        <p:nvSpPr>
          <p:cNvPr id="600" name="TextBox 6"/>
          <p:cNvSpPr/>
          <p:nvPr/>
        </p:nvSpPr>
        <p:spPr>
          <a:xfrm>
            <a:off x="1905120" y="533520"/>
            <a:ext cx="461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ff"/>
                </a:solidFill>
                <a:latin typeface="Franklin Gothic Medium"/>
                <a:ea typeface="Franklin Gothic Medium"/>
              </a:rPr>
              <a:t>G</a:t>
            </a:r>
            <a:r>
              <a:rPr b="1" lang="en-US" sz="9600" spc="-1" strike="noStrike">
                <a:solidFill>
                  <a:srgbClr val="ff0000"/>
                </a:solidFill>
                <a:latin typeface="Franklin Gothic Medium"/>
                <a:ea typeface="Franklin Gothic Medium"/>
              </a:rPr>
              <a:t>o</a:t>
            </a:r>
            <a:r>
              <a:rPr b="1" lang="en-US" sz="9600" spc="-1" strike="noStrike">
                <a:solidFill>
                  <a:srgbClr val="ff9900"/>
                </a:solidFill>
                <a:latin typeface="Franklin Gothic Medium"/>
                <a:ea typeface="Franklin Gothic Medium"/>
              </a:rPr>
              <a:t>o</a:t>
            </a:r>
            <a:r>
              <a:rPr b="1" lang="en-US" sz="9600" spc="-1" strike="noStrike">
                <a:solidFill>
                  <a:srgbClr val="3366ff"/>
                </a:solidFill>
                <a:latin typeface="Franklin Gothic Medium"/>
                <a:ea typeface="Franklin Gothic Medium"/>
              </a:rPr>
              <a:t>g</a:t>
            </a:r>
            <a:r>
              <a:rPr b="1" lang="en-US" sz="9600" spc="-1" strike="noStrike">
                <a:solidFill>
                  <a:srgbClr val="008000"/>
                </a:solidFill>
                <a:latin typeface="Franklin Gothic Medium"/>
                <a:ea typeface="Franklin Gothic Medium"/>
              </a:rPr>
              <a:t>l</a:t>
            </a:r>
            <a:r>
              <a:rPr b="1" lang="en-US" sz="9600" spc="-1" strike="noStrike">
                <a:solidFill>
                  <a:srgbClr val="ff0000"/>
                </a:solidFill>
                <a:latin typeface="Franklin Gothic Medium"/>
                <a:ea typeface="Franklin Gothic Medium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12"/>
          <p:cNvGrpSpPr/>
          <p:nvPr/>
        </p:nvGrpSpPr>
        <p:grpSpPr>
          <a:xfrm>
            <a:off x="380880" y="2057040"/>
            <a:ext cx="3200400" cy="3048120"/>
            <a:chOff x="380880" y="2057040"/>
            <a:chExt cx="3200400" cy="3048120"/>
          </a:xfrm>
        </p:grpSpPr>
        <p:pic>
          <p:nvPicPr>
            <p:cNvPr id="602" name="Picture 6" descr=""/>
            <p:cNvPicPr/>
            <p:nvPr/>
          </p:nvPicPr>
          <p:blipFill>
            <a:blip r:embed="rId1"/>
            <a:stretch/>
          </p:blipFill>
          <p:spPr>
            <a:xfrm>
              <a:off x="1219680" y="2361960"/>
              <a:ext cx="23616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Box 7"/>
            <p:cNvSpPr/>
            <p:nvPr/>
          </p:nvSpPr>
          <p:spPr>
            <a:xfrm rot="16200000">
              <a:off x="-791280" y="3229200"/>
              <a:ext cx="304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44444"/>
                  </a:solidFill>
                  <a:latin typeface="Calibri"/>
                </a:rPr>
                <a:t>Create/ Track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Group 13"/>
          <p:cNvGrpSpPr/>
          <p:nvPr/>
        </p:nvGrpSpPr>
        <p:grpSpPr>
          <a:xfrm>
            <a:off x="3360600" y="130320"/>
            <a:ext cx="2811600" cy="2366640"/>
            <a:chOff x="3360600" y="130320"/>
            <a:chExt cx="2811600" cy="2366640"/>
          </a:xfrm>
        </p:grpSpPr>
        <p:pic>
          <p:nvPicPr>
            <p:cNvPr id="605" name="Picture 2" descr=""/>
            <p:cNvPicPr/>
            <p:nvPr/>
          </p:nvPicPr>
          <p:blipFill>
            <a:blip r:embed="rId2"/>
            <a:stretch/>
          </p:blipFill>
          <p:spPr>
            <a:xfrm>
              <a:off x="3751560" y="762120"/>
              <a:ext cx="1734840" cy="17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Box 8"/>
            <p:cNvSpPr/>
            <p:nvPr/>
          </p:nvSpPr>
          <p:spPr>
            <a:xfrm>
              <a:off x="3360600" y="130320"/>
              <a:ext cx="281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44444"/>
                  </a:solidFill>
                  <a:latin typeface="Calibri"/>
                </a:rPr>
                <a:t>Collaborate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Group 15"/>
          <p:cNvGrpSpPr/>
          <p:nvPr/>
        </p:nvGrpSpPr>
        <p:grpSpPr>
          <a:xfrm>
            <a:off x="4267080" y="4527720"/>
            <a:ext cx="1670040" cy="2249640"/>
            <a:chOff x="4267080" y="4527720"/>
            <a:chExt cx="1670040" cy="2249640"/>
          </a:xfrm>
        </p:grpSpPr>
        <p:pic>
          <p:nvPicPr>
            <p:cNvPr id="608" name="Picture 1" descr=""/>
            <p:cNvPicPr/>
            <p:nvPr/>
          </p:nvPicPr>
          <p:blipFill>
            <a:blip r:embed="rId3"/>
            <a:srcRect l="21099" t="19738" r="21502" b="20376"/>
            <a:stretch/>
          </p:blipFill>
          <p:spPr>
            <a:xfrm>
              <a:off x="4296960" y="4527720"/>
              <a:ext cx="164016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Box 9"/>
            <p:cNvSpPr/>
            <p:nvPr/>
          </p:nvSpPr>
          <p:spPr>
            <a:xfrm>
              <a:off x="4267080" y="6073920"/>
              <a:ext cx="1641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44444"/>
                  </a:solidFill>
                  <a:latin typeface="Calibri"/>
                </a:rPr>
                <a:t>Share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0" name="Group 14"/>
          <p:cNvGrpSpPr/>
          <p:nvPr/>
        </p:nvGrpSpPr>
        <p:grpSpPr>
          <a:xfrm>
            <a:off x="6095880" y="2280960"/>
            <a:ext cx="2761200" cy="2138760"/>
            <a:chOff x="6095880" y="2280960"/>
            <a:chExt cx="2761200" cy="2138760"/>
          </a:xfrm>
        </p:grpSpPr>
        <p:pic>
          <p:nvPicPr>
            <p:cNvPr id="611" name="Picture 5" descr=""/>
            <p:cNvPicPr/>
            <p:nvPr/>
          </p:nvPicPr>
          <p:blipFill>
            <a:blip r:embed="rId4"/>
            <a:srcRect l="18881" t="16042" r="19402" b="17907"/>
            <a:stretch/>
          </p:blipFill>
          <p:spPr>
            <a:xfrm>
              <a:off x="6095880" y="2343600"/>
              <a:ext cx="1940760" cy="20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Box 10"/>
            <p:cNvSpPr/>
            <p:nvPr/>
          </p:nvSpPr>
          <p:spPr>
            <a:xfrm rot="16200000">
              <a:off x="7512120" y="2922120"/>
              <a:ext cx="1986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44444"/>
                  </a:solidFill>
                  <a:latin typeface="Calibri"/>
                </a:rPr>
                <a:t>storage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3" name="Picture 11" descr=""/>
          <p:cNvPicPr/>
          <p:nvPr/>
        </p:nvPicPr>
        <p:blipFill>
          <a:blip r:embed="rId5"/>
          <a:stretch/>
        </p:blipFill>
        <p:spPr>
          <a:xfrm>
            <a:off x="4092480" y="2568600"/>
            <a:ext cx="17748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" descr="Screen Shot 2015-07-21 at 7.08.14 PM.png"/>
          <p:cNvPicPr/>
          <p:nvPr/>
        </p:nvPicPr>
        <p:blipFill>
          <a:blip r:embed="rId1"/>
          <a:srcRect l="2094" t="32423" r="60648" b="21190"/>
          <a:stretch/>
        </p:blipFill>
        <p:spPr>
          <a:xfrm>
            <a:off x="738360" y="1573200"/>
            <a:ext cx="7948440" cy="4827600"/>
          </a:xfrm>
          <a:prstGeom prst="rect">
            <a:avLst/>
          </a:prstGeom>
          <a:ln w="0">
            <a:noFill/>
          </a:ln>
        </p:spPr>
      </p:pic>
      <p:sp>
        <p:nvSpPr>
          <p:cNvPr id="615" name="TextBox 5"/>
          <p:cNvSpPr/>
          <p:nvPr/>
        </p:nvSpPr>
        <p:spPr>
          <a:xfrm>
            <a:off x="2057400" y="380880"/>
            <a:ext cx="5643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  <a:ea typeface="Franklin Gothic Medium"/>
              </a:rPr>
              <a:t>What is available </a:t>
            </a:r>
            <a:r>
              <a:rPr b="0" lang="mr-IN" sz="4400" spc="-1" strike="noStrike">
                <a:solidFill>
                  <a:srgbClr val="000000"/>
                </a:solidFill>
                <a:latin typeface="Franklin Gothic Medium"/>
                <a:ea typeface="Franklin Gothic Medium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6"/>
          <p:cNvSpPr/>
          <p:nvPr/>
        </p:nvSpPr>
        <p:spPr>
          <a:xfrm>
            <a:off x="3124080" y="100080"/>
            <a:ext cx="289584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  <a:ea typeface="Franklin Gothic Medium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ight Arrow 7"/>
          <p:cNvSpPr/>
          <p:nvPr/>
        </p:nvSpPr>
        <p:spPr>
          <a:xfrm rot="992400">
            <a:off x="5729040" y="3022560"/>
            <a:ext cx="1371600" cy="83808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441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ight Arrow 9"/>
          <p:cNvSpPr/>
          <p:nvPr/>
        </p:nvSpPr>
        <p:spPr>
          <a:xfrm rot="3721200">
            <a:off x="7092000" y="562320"/>
            <a:ext cx="1347840" cy="479520"/>
          </a:xfrm>
          <a:prstGeom prst="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68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1"/>
          <p:cNvSpPr/>
          <p:nvPr/>
        </p:nvSpPr>
        <p:spPr>
          <a:xfrm>
            <a:off x="5181480" y="2743200"/>
            <a:ext cx="457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18:47:58Z</dcterms:created>
  <dc:creator>Middleton, Gavin</dc:creator>
  <dc:description/>
  <dc:language>en-US</dc:language>
  <cp:lastModifiedBy>Tolbert Sonda</cp:lastModifiedBy>
  <dcterms:modified xsi:type="dcterms:W3CDTF">2019-11-13T13:27:01Z</dcterms:modified>
  <cp:revision>162</cp:revision>
  <dc:subject/>
  <dc:title>PowerPoint Presentation</dc:title>
</cp:coreProperties>
</file>