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4300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E0C1-F668-4790-AC1F-17FAFD116EB4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of voice is how the character of your business comes through in your words, both written and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ok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t's not about what you say, but rather the way that you say it, and the impression it makes on everyone who reads or hears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on or process of tuning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43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5906-B279-4AD0-986E-A97E4817092C}" type="slidenum">
              <a:rPr b="0" lang="en-IN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202-87BD-4649-9389-A745A8EB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E0B-827A-4282-BB36-72B1E1D7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C5A-FD7A-44D8-B9D8-CB157787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A0B-8C15-4AF9-BB41-9777938C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9664-CABA-4343-8454-978A0D8E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FA6E-8726-4F16-ADF6-BBD45375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CEA4-C36A-4DCE-AC62-9BFC3882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DEE3-0A5B-488D-A77E-C2E739AC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6D5C-80F4-4A96-8AA2-380010F7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DC5F-D77D-4080-A71A-458978AB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1AC2-7952-493E-A8EB-830F6F6F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59B-C9C1-4683-85B6-686F17FE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9E0B-80FD-46C3-A930-0902EC29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9A17-209B-414F-BCB9-71A3962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45FD-3675-4F66-8A09-D517C42A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B3AF-0C19-44BC-BAEB-E06955F8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10F3-6FBB-456F-83A2-12DB80EB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A26-7352-467D-9F62-EEEA3EE8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4E2-5153-4925-9B5F-F5F4CFB1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8E3-D2B8-4470-AB97-44CB6879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543-B4D0-44CC-9F46-B878621B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33C-FB36-490E-A2AC-1AF1CFF3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734-529C-44CD-8336-56A33C2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0FF-7D24-48A5-BA9E-807A1A47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EAAE-0D94-4992-A0C8-6F3AF04FDE8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8920" y="63000"/>
              <a:ext cx="3630960" cy="6141960"/>
              <a:chOff x="5398920" y="63000"/>
              <a:chExt cx="3630960" cy="61419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812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812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9164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9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7520"/>
                <a:ext cx="16308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9080" y="12466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200" y="294336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6120"/>
              <a:ext cx="893160" cy="825840"/>
              <a:chOff x="5643360" y="276120"/>
              <a:chExt cx="89316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70760"/>
                <a:ext cx="17928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200" y="4510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080" y="375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240"/>
              <a:ext cx="1059480" cy="831240"/>
              <a:chOff x="968760" y="5250240"/>
              <a:chExt cx="105948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440" y="5514840"/>
                <a:ext cx="250920" cy="299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26160"/>
                <a:ext cx="429840" cy="24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EDBE-1C73-4D2A-AD9E-6D1FDEE66CD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28600" y="11430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680c"/>
                </a:solidFill>
                <a:latin typeface="Arial"/>
              </a:rPr>
              <a:t>Tips for Effective Oral Communication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1066680" y="3657600"/>
            <a:ext cx="624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"/>
              </a:rPr>
              <a:t>Prof Tandi Lwog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"/>
              </a:rPr>
              <a:t>Associate Professo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"/>
              </a:rPr>
              <a:t>Deputy Rector – Academic, Research and Consultan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"/>
              </a:rPr>
              <a:t>College of Business Educ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"/>
              </a:rPr>
              <a:t>Tanzani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Find out what your listener want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sk questions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listen to the respon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open-ended ques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Rephrase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questions to ensure better understand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er suggestions/alternatives for the listener to evalua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Define terms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avoid misunderstand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How to listen effectively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real art of oral communication is talking while listen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llow the other person to spea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spect the other person’s point of vie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Listen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ctively instead of only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ear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Think before you talk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use, think and consider what you want to s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oose appropriate words to communicate the meaning clearl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cide the tone of your voi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cide the outcome of the convers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f possible,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learn about your audience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 advan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Have belief in your messag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crux of successful communic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ak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ith conviction and pass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 as natural as you can be with your feelings, body language and to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how enthusias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void faking or putting on an ac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Use gestures effectively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Gesture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re facial expressions, hand and body movements used in communic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make the communication process livel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can be used to support or emphazie a poi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304560"/>
            <a:ext cx="8229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Shruti"/>
              </a:rPr>
              <a:t>Examples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put hands in your pocket while talking to senior in a non-casual mann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ew anything when you tal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ing with a pen or any objec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take off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your sunglass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main as NORMAL as you ca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153640" cy="5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Body language: do’s and don’t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3873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699"/>
                </a:solidFill>
                <a:uFillTx/>
                <a:latin typeface="Verdana"/>
              </a:rPr>
              <a:t>D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Firm handshak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Eye contac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Smile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Open postur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Relaxed, but aler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Look neat &amp; profession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Adopt appropriate dress cod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Listen actively – ‘head nods’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Sit in the right se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Go to the loo beforehand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2131560"/>
            <a:ext cx="38718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699"/>
                </a:solidFill>
                <a:uFillTx/>
                <a:latin typeface="Verdana"/>
              </a:rPr>
              <a:t>DON’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Limp/clammy handshak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Bring in carrier bags/clutte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Wear jean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Look dow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Cross arms(?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Flop into chai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Wave arm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Stare out of window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Shake with nerv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bf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Adopt a threatening postur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Reiterate major point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einforces your main points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d enables information retention by the listen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now what you want to emphasiz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iterate it during the conversation in different way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sk the listener for feedback tactfull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rame questions to ensure that the listener has understood your main poi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Avoid acronyms and jarg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f it has to be used, then define it and proce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f you have to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use jargon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slow down speech and look for visual feedback to ensure understand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Handle objec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void quick judgements.  Put yourself in the other’s shoe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 fair in handling objection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o not get emotiona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You can pre-empt an objection and support it with your poi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785880" y="990720"/>
            <a:ext cx="7520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Monotype Corsiva"/>
              </a:rPr>
              <a:t>It is said that it does not matter what you say, what matters is how you say it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Ask for feedback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ensure that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here is no confus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sk general questions like “Am I making myself clear?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sk specific questions like “From what I understand from our conversation….is that right?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371600" y="31240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How to be a better communicator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What you can do to be a better communicator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crease your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vocabular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ea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no shortcuts he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eep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up-to-dat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with current eve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void audible pauses like “ah”, “er”, “um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actice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nouncing words properl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ak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neither too slowly nor too fa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tch t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one of your voi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Know the subject matt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9152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What you can do to be a better communicator (Contd…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et to t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oint quick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s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gender neutral langu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llustrate with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ersonal examp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e concise and simp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3" descr=""/>
          <p:cNvPicPr/>
          <p:nvPr/>
        </p:nvPicPr>
        <p:blipFill>
          <a:blip r:embed="rId1"/>
          <a:stretch/>
        </p:blipFill>
        <p:spPr>
          <a:xfrm>
            <a:off x="785880" y="1603440"/>
            <a:ext cx="7462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80880" y="6094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a680c"/>
                </a:solidFill>
                <a:latin typeface="Verdana"/>
              </a:rPr>
              <a:t>Which are important points  to improve communication skills?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57200" y="184464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munication skills = 10% words + 30% (tone +tuning) + 60% body language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is ton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is tuning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is body language 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9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Speaking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73040" indent="-473040">
              <a:spcBef>
                <a:spcPts val="9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73040" indent="-473040">
              <a:spcBef>
                <a:spcPts val="9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73040" indent="-473040">
              <a:spcBef>
                <a:spcPts val="9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73040" indent="-473040">
              <a:spcBef>
                <a:spcPts val="9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Listening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73040" indent="-473040">
              <a:spcBef>
                <a:spcPts val="9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73040" indent="-473040">
              <a:spcBef>
                <a:spcPts val="9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Reading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73040" indent="-473040">
              <a:spcBef>
                <a:spcPts val="9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73040" indent="-473040">
              <a:spcBef>
                <a:spcPts val="9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Non-verbal communication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73040" indent="-47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7238880" y="1600200"/>
            <a:ext cx="1247760" cy="1409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D:\MyWorks\Photo\PUB60COR\BD09662_.WMF"/>
          <p:cNvPicPr/>
          <p:nvPr/>
        </p:nvPicPr>
        <p:blipFill>
          <a:blip r:embed="rId2"/>
          <a:stretch/>
        </p:blipFill>
        <p:spPr>
          <a:xfrm>
            <a:off x="5999040" y="2597040"/>
            <a:ext cx="1316160" cy="142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3"/>
          <a:stretch/>
        </p:blipFill>
        <p:spPr>
          <a:xfrm>
            <a:off x="6248520" y="379440"/>
            <a:ext cx="990360" cy="122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"/>
          <p:cNvPicPr/>
          <p:nvPr/>
        </p:nvPicPr>
        <p:blipFill>
          <a:blip r:embed="rId4"/>
          <a:stretch/>
        </p:blipFill>
        <p:spPr>
          <a:xfrm>
            <a:off x="6858000" y="3886200"/>
            <a:ext cx="1814400" cy="1236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"/>
          <p:cNvPicPr/>
          <p:nvPr/>
        </p:nvPicPr>
        <p:blipFill>
          <a:blip r:embed="rId5"/>
          <a:stretch/>
        </p:blipFill>
        <p:spPr>
          <a:xfrm>
            <a:off x="7839000" y="5084640"/>
            <a:ext cx="987480" cy="1535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7"/>
          <p:cNvSpPr/>
          <p:nvPr/>
        </p:nvSpPr>
        <p:spPr>
          <a:xfrm>
            <a:off x="3733920" y="91440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3733920" y="220968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3733920" y="335268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733920" y="472428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AutoShape 21"/>
          <p:cNvSpPr/>
          <p:nvPr/>
        </p:nvSpPr>
        <p:spPr>
          <a:xfrm>
            <a:off x="7467480" y="60958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ypes of oral communic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57120" y="1981080"/>
            <a:ext cx="650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ce To Fa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ublic speaking/pres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elephonic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ideo Conferenc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tervie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Group Discuss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Grapevin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572080" y="4041720"/>
            <a:ext cx="32608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09480" y="3284640"/>
            <a:ext cx="81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How to communicate effectively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How to communicate effectively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ntrol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fea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eye contact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ith the listen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ind out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what your listener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an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Listen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careful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ink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before you tal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ave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belief in your mess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estures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effective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Pause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at the right pla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Reiterate the major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in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void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cronyms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and jarg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andle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obje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k for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feedbac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How to control fear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ke a deep breath, relax and be yourself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cus on th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stener (not yourself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essage (not word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ccess (not alternative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isualize a positive outco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o your homework,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know what you want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s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eep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negative thoughts under contro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Establish eye contact with the listener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ery important to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get feedback for non verbal cu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elps you to adjust your conversation according to the visual feedback you g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ipro</dc:creator>
  <dc:description/>
  <dc:language>en-US</dc:language>
  <cp:lastModifiedBy>Adelard Nhunde Saduka</cp:lastModifiedBy>
  <dcterms:modified xsi:type="dcterms:W3CDTF">2019-11-11T16:40:07Z</dcterms:modified>
  <cp:revision>133</cp:revision>
  <dc:subject/>
  <dc:title>TIPS FOR EFFECTIVE COMMUNICATION</dc:title>
</cp:coreProperties>
</file>